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5881-EE94-42D8-B898-2B05A89F7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DDF0-33B3-4F2F-B0DD-A5F5C9C455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9AEB-A9FC-41B7-B5C7-847276E6CF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3574-8AAF-4335-963B-9D9F1BE79C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AD00-99BE-49B7-A6A3-620A8BFC1E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5028-0260-4D43-862E-5F2812EAD4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62DA-3625-4114-9398-5F340DCDD4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D56E-886E-45C0-B655-3718EC662A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9309-B2E4-45FB-AD91-AA5C2E0F30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2EFF-EC5B-4777-B99B-92448336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B9A5-4464-421C-A156-FBFED27C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07BB-EBC7-4665-B727-86940442B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8967-EB0E-470C-8177-B5E1D0668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F0FD-18FA-48FA-A2C1-A0F9B4016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F994-DB5B-4B97-BCBD-8BDEAC18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CC10-BC35-464D-8B5E-25410793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073F-3ABE-4748-8538-E3DD91EF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5ACB-6454-4D68-B750-77F253E4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B57D-DCD5-4366-913E-D5B099CF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5969-E8F4-44D4-9284-79664F54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DA9A-AD1E-4B4A-854C-E68E5311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95A1-5514-499E-8A14-4691D5E0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4A72-5B58-49B9-ACD4-2ED33470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AF93-4F3C-4D61-A859-5EFDF978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F6FC-49B5-4C39-A828-0585D2F8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5E3E-5738-4AB4-8841-933E8367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896C-9A53-40DE-AD7D-97AA7875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D9D2-313E-48D7-9D2A-D5A86EB6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73FF-61F7-4D90-BB5D-F134EFB9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420D-B2FA-4101-9165-6C40E569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B0F5-1962-42A7-8548-1B42A2AC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B1D2-0F0B-4BDF-808B-5A52E1F6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11F0-F5D8-496D-B0FD-B0F3FAF1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035D-2F11-45C0-ADF7-DEE709ED68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A945-4CCB-4424-9000-5196F13F97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hapter Seven: 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The Articles of Confederation and a dysfunctional governmen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tory 21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150px-Federalisttitlepage"/>
          <p:cNvPicPr/>
          <p:nvPr/>
        </p:nvPicPr>
        <p:blipFill>
          <a:blip r:embed="rId1"/>
          <a:stretch/>
        </p:blipFill>
        <p:spPr>
          <a:xfrm>
            <a:off x="5638680" y="609480"/>
            <a:ext cx="3059280" cy="55882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457200" y="990720"/>
            <a:ext cx="4800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September, 1787: Constitution goes publ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Federalists vs. Antifederali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The Federalist Pap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Madison, Hamilton, and J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Bill of Righ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Early-1789 government begi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George Washington-Apri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NYC = temporary capit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ey Term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Content Placeholder 2" descr=""/>
          <p:cNvPicPr/>
          <p:nvPr/>
        </p:nvPicPr>
        <p:blipFill>
          <a:blip r:embed="rId1"/>
          <a:stretch/>
        </p:blipFill>
        <p:spPr>
          <a:xfrm>
            <a:off x="365040" y="1523880"/>
            <a:ext cx="832176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Question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What were some of the shortcomings of the Articles of Confeder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What were some of the main points of disagreement over the U.S. Constitu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What were some of the reactions Americans felt towards the new Constitu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Articles of Confederation, 1781-1787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Land Ordinan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of 178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Northwes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Ordinance, 178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3 stages to statehoo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slavery abolished th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4" descr="nwterrit"/>
          <p:cNvPicPr/>
          <p:nvPr/>
        </p:nvPicPr>
        <p:blipFill>
          <a:blip r:embed="rId1"/>
          <a:stretch/>
        </p:blipFill>
        <p:spPr>
          <a:xfrm>
            <a:off x="914400" y="3600360"/>
            <a:ext cx="2933640" cy="3257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nwordinance"/>
          <p:cNvPicPr/>
          <p:nvPr/>
        </p:nvPicPr>
        <p:blipFill>
          <a:blip r:embed="rId2"/>
          <a:stretch/>
        </p:blipFill>
        <p:spPr>
          <a:xfrm>
            <a:off x="4572000" y="685800"/>
            <a:ext cx="395748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Need for a Constit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228600" y="1066680"/>
            <a:ext cx="4343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International Rel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Inability to regulate and negotiate foreign trade and foreign tre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British troo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Loyalist reparation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ccess to the MS Ri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228600" y="1066680"/>
            <a:ext cx="4343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Domestic Rel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 need to oversee westward expansion, army need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onflict between the st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No unified monetary 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Weak central gover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Path to Philadelphia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3337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Mt. Vernon meeting (178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nnapolis Convention (178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Shay’s Rebellion (178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Daniel Shays, Massachuset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onstitutional Convention convenes, May, 178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4" descr="Mount-Vernon-West-Front-Web"/>
          <p:cNvPicPr/>
          <p:nvPr/>
        </p:nvPicPr>
        <p:blipFill>
          <a:blip r:embed="rId1"/>
          <a:stretch/>
        </p:blipFill>
        <p:spPr>
          <a:xfrm>
            <a:off x="380880" y="3867120"/>
            <a:ext cx="4343400" cy="2990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shays"/>
          <p:cNvPicPr/>
          <p:nvPr/>
        </p:nvPicPr>
        <p:blipFill>
          <a:blip r:embed="rId2"/>
          <a:stretch/>
        </p:blipFill>
        <p:spPr>
          <a:xfrm>
            <a:off x="5181480" y="1143000"/>
            <a:ext cx="3705480" cy="49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Constitutio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29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he Deleg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74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55 total, 12 of 13 st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289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Young, Well Educa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289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James Madis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289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SC delega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74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6" descr="signers-mural"/>
          <p:cNvPicPr/>
          <p:nvPr/>
        </p:nvPicPr>
        <p:blipFill>
          <a:blip r:embed="rId1"/>
          <a:stretch/>
        </p:blipFill>
        <p:spPr>
          <a:xfrm>
            <a:off x="2590920" y="2133720"/>
            <a:ext cx="638172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Constitutio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Legislative Bran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VA and NJ Pl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Sherman/CT compromi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Final resul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Executive Bran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VA and NJ Pl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Final resul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Judicial Bran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VA and NJ Pl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Final resul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Slavery and the 3/5 ru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4T20:33:48Z</dcterms:created>
  <dc:creator>Daniel J. Tortora</dc:creator>
  <dc:description/>
  <dc:language>en-US</dc:language>
  <cp:lastModifiedBy>J Franklin Williamson</cp:lastModifiedBy>
  <dcterms:modified xsi:type="dcterms:W3CDTF">2019-02-25T15:39:25Z</dcterms:modified>
  <cp:revision>13</cp:revision>
  <dc:subject/>
  <dc:title>Slide 1</dc:title>
</cp:coreProperties>
</file>